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907588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9765-4754-4A1D-8AE2-7B744920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41306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A67C-6F9A-435E-9B60-3E1CB2AD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692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692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1FDF-C2A2-4D34-859D-AC68938C0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9568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2960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9568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2960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5107-B2B0-4446-982D-506A1CC78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E4041-D0CA-4ABD-8564-B3CED7FD06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2E025-4F30-478E-B4F1-ED482F32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2C3EA-F588-49E2-993F-B680A785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5692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4B7D9-95B6-4538-AA74-4464B3CE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43BDB-10A8-48E7-A161-5D34DA46A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1760" y="6091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26F26-6C35-4084-9D22-668067B27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5692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176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E36DD-727C-43C5-A1ED-0C033269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4C05-78BF-4AC6-9C99-6E177BB8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5692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5692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10839-461E-4B05-B9C7-AE81A1B4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5692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1760" y="41306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C6EE2-4085-44DC-B21F-B0B8F087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61760" y="41306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3FBE2-9E07-48CC-9001-D3D326EB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692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5692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72A0E-5C19-43E8-B10D-07818833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9568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960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176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9568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960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F1BF0-B106-4708-891D-431E030313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6EEE-35D5-40C2-BD44-A1854BD0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692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3AF0-25CD-42FD-8566-ECDFE381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D5DD-B4C7-44B3-93EC-9C89A627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1760" y="6091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D9BE-1230-4B4A-8BC5-24AD851F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692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5BBC-34A4-44E6-802D-372122B0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692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692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4BCB-6257-49B2-A353-260130D5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692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41306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932D-BB21-4658-AE31-48A6D1B3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54840" y="268200"/>
            <a:ext cx="1516320" cy="6699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38080" y="1219320"/>
            <a:ext cx="388620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1397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ff9966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ff9966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1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57D1-AF4E-457B-8286-ED7A5CE17727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E828-AD1D-467A-A9F5-C6DC1CCE504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32976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2CDE-9B58-4608-A4B2-B38FA568426C}" type="datetime">
              <a:rPr b="0" lang="en-US" sz="1400" spc="-1" strike="noStrike">
                <a:solidFill>
                  <a:srgbClr val="010000"/>
                </a:solidFill>
                <a:latin typeface="Verdana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5"/>
          </p:nvPr>
        </p:nvSpPr>
        <p:spPr>
          <a:xfrm>
            <a:off x="7594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1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FDA7-94B6-4B2B-847A-5B1C047C8250}" type="slidenum">
              <a:rPr b="0" lang="en-US" sz="1400" spc="-1" strike="noStrike">
                <a:solidFill>
                  <a:srgbClr val="01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350120" y="3187800"/>
            <a:ext cx="2556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MCD 202 Famil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826920" y="407880"/>
            <a:ext cx="8643960" cy="5486760"/>
            <a:chOff x="826920" y="407880"/>
            <a:chExt cx="8643960" cy="5486760"/>
          </a:xfrm>
        </p:grpSpPr>
        <p:pic>
          <p:nvPicPr>
            <p:cNvPr id="83" name="" descr=""/>
            <p:cNvPicPr/>
            <p:nvPr/>
          </p:nvPicPr>
          <p:blipFill>
            <a:blip r:embed="rId1"/>
            <a:srcRect l="3743" t="11567" r="2459" b="21248"/>
            <a:stretch/>
          </p:blipFill>
          <p:spPr>
            <a:xfrm>
              <a:off x="1158840" y="1303200"/>
              <a:ext cx="8312040" cy="446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863640" y="5510160"/>
              <a:ext cx="2556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200" spc="-1" strike="noStrike">
                  <a:solidFill>
                    <a:srgbClr val="000000"/>
                  </a:solidFill>
                  <a:latin typeface="Verdana"/>
                </a:rPr>
                <a:t>MCD 201 30kW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02040" y="5572080"/>
              <a:ext cx="2555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200" spc="-1" strike="noStrike">
                  <a:solidFill>
                    <a:srgbClr val="000000"/>
                  </a:solidFill>
                  <a:latin typeface="Verdana"/>
                </a:rPr>
                <a:t>MCD 201 30kW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049720" y="5559480"/>
              <a:ext cx="2556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200" spc="-1" strike="noStrike">
                  <a:solidFill>
                    <a:srgbClr val="000000"/>
                  </a:solidFill>
                  <a:latin typeface="Verdana"/>
                </a:rPr>
                <a:t>MCD 201 55kW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02680" y="5619600"/>
              <a:ext cx="1574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200" spc="-1" strike="noStrike">
                  <a:solidFill>
                    <a:srgbClr val="000000"/>
                  </a:solidFill>
                  <a:latin typeface="Verdana"/>
                </a:rPr>
                <a:t>MCD 201 110kW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26920" y="3379680"/>
              <a:ext cx="8186760" cy="32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7920" y="3463920"/>
              <a:ext cx="2556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200" spc="-1" strike="noStrike">
                  <a:solidFill>
                    <a:srgbClr val="000000"/>
                  </a:solidFill>
                  <a:latin typeface="Verdana"/>
                </a:rPr>
                <a:t>MCD 202 30kW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81160" y="2968560"/>
              <a:ext cx="2556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200" spc="-1" strike="noStrike">
                  <a:solidFill>
                    <a:srgbClr val="000000"/>
                  </a:solidFill>
                  <a:latin typeface="Verdana"/>
                </a:rPr>
                <a:t>MCD 202 Family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03840" y="3122640"/>
              <a:ext cx="2555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200" spc="-1" strike="noStrike">
                  <a:solidFill>
                    <a:srgbClr val="000000"/>
                  </a:solidFill>
                  <a:latin typeface="Verdana"/>
                </a:rPr>
                <a:t>VLT Soft Starter Family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41320" y="407880"/>
              <a:ext cx="7039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a-DK" sz="2000" spc="-1" strike="noStrike">
                  <a:solidFill>
                    <a:srgbClr val="000000"/>
                  </a:solidFill>
                  <a:latin typeface="Verdana"/>
                </a:rPr>
                <a:t>MCD 200 high resolution photo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7581-E231-48BF-A950-17DEAB712CDE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1B2E54-6B18-403B-80EA-E8E32BAD9B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528480" y="1163520"/>
            <a:ext cx="9377640" cy="4569480"/>
            <a:chOff x="528480" y="1163520"/>
            <a:chExt cx="9377640" cy="4569480"/>
          </a:xfrm>
        </p:grpSpPr>
        <p:pic>
          <p:nvPicPr>
            <p:cNvPr id="94" name="" descr=""/>
            <p:cNvPicPr/>
            <p:nvPr/>
          </p:nvPicPr>
          <p:blipFill>
            <a:blip r:embed="rId1"/>
            <a:srcRect l="3876" t="50588" r="4655" b="15475"/>
            <a:stretch/>
          </p:blipFill>
          <p:spPr>
            <a:xfrm>
              <a:off x="984240" y="1163520"/>
              <a:ext cx="8921880" cy="24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2"/>
            <a:srcRect l="4769" t="58119" r="71667" b="13540"/>
            <a:stretch/>
          </p:blipFill>
          <p:spPr>
            <a:xfrm>
              <a:off x="5099040" y="3433680"/>
              <a:ext cx="2298600" cy="20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3"/>
            <a:srcRect l="4913" t="24782" r="71664" b="49220"/>
            <a:stretch/>
          </p:blipFill>
          <p:spPr>
            <a:xfrm>
              <a:off x="760320" y="3532320"/>
              <a:ext cx="2284560" cy="190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514840" y="5457960"/>
              <a:ext cx="2556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200" spc="-1" strike="noStrike">
                  <a:solidFill>
                    <a:srgbClr val="000000"/>
                  </a:solidFill>
                  <a:latin typeface="Verdana"/>
                </a:rPr>
                <a:t>MCD 201 110kW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8480" y="3171960"/>
              <a:ext cx="2556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200" spc="-1" strike="noStrike">
                  <a:solidFill>
                    <a:srgbClr val="000000"/>
                  </a:solidFill>
                  <a:latin typeface="Verdana"/>
                </a:rPr>
                <a:t>MCD 202 30kW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54160" y="3201840"/>
              <a:ext cx="2556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200" spc="-1" strike="noStrike">
                  <a:solidFill>
                    <a:srgbClr val="000000"/>
                  </a:solidFill>
                  <a:latin typeface="Verdana"/>
                </a:rPr>
                <a:t>MCD 202 55kW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40160" y="3251160"/>
              <a:ext cx="2556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200" spc="-1" strike="noStrike">
                  <a:solidFill>
                    <a:srgbClr val="000000"/>
                  </a:solidFill>
                  <a:latin typeface="Verdana"/>
                </a:rPr>
                <a:t>MCD 202 55kW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60240" y="5349960"/>
              <a:ext cx="2556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200" spc="-1" strike="noStrike">
                  <a:solidFill>
                    <a:srgbClr val="000000"/>
                  </a:solidFill>
                  <a:latin typeface="Verdana"/>
                </a:rPr>
                <a:t>MCD 202 Family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536400" y="392040"/>
            <a:ext cx="7039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Verdana"/>
              </a:rPr>
              <a:t>MCD 200 high resolution pho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0DAE-D92E-4B59-BA34-B6D63AAE7F31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FEFBB6-2072-4923-8BAC-4F93E06C28F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9:05:31Z</dcterms:created>
  <dc:creator>F04047</dc:creator>
  <dc:description/>
  <dc:language>en-US</dc:language>
  <cp:lastModifiedBy>f06247</cp:lastModifiedBy>
  <dcterms:modified xsi:type="dcterms:W3CDTF">2003-10-09T08:18:55Z</dcterms:modified>
  <cp:revision>12</cp:revision>
  <dc:subject>Danfoss Presentation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oduct">
    <vt:lpwstr/>
  </property>
  <property fmtid="{D5CDD505-2E9C-101B-9397-08002B2CF9AE}" pid="3" name="TemplateUrl">
    <vt:lpwstr/>
  </property>
  <property fmtid="{D5CDD505-2E9C-101B-9397-08002B2CF9AE}" pid="4" name="_SharedFileIndex">
    <vt:lpwstr/>
  </property>
  <property fmtid="{D5CDD505-2E9C-101B-9397-08002B2CF9AE}" pid="5" name="_SourceUrl">
    <vt:lpwstr/>
  </property>
  <property fmtid="{D5CDD505-2E9C-101B-9397-08002B2CF9AE}" pid="6" name="display_urn:schemas-microsoft-com:office:office#Author">
    <vt:lpwstr>Korsbak Lars</vt:lpwstr>
  </property>
  <property fmtid="{D5CDD505-2E9C-101B-9397-08002B2CF9AE}" pid="7" name="display_urn:schemas-microsoft-com:office:office#Editor">
    <vt:lpwstr>Korsbak Lars</vt:lpwstr>
  </property>
  <property fmtid="{D5CDD505-2E9C-101B-9397-08002B2CF9AE}" pid="8" name="xd_ProgID">
    <vt:lpwstr/>
  </property>
  <property fmtid="{D5CDD505-2E9C-101B-9397-08002B2CF9AE}" pid="9" name="xd_Signature">
    <vt:lpwstr/>
  </property>
</Properties>
</file>